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742-D79F-488D-B3C6-89429629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174-8266-4CB7-875A-8A7989B4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49D-2D6C-4BCA-879B-B992D7AD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750-E90D-4E9B-8B34-E878846F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110-4E87-4948-8BC2-2144BDE8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575-F7C6-4166-AC33-BFC68F6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B03-DF95-4C7B-887C-F8FEF99A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102-41BC-4B63-856E-60BBC72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F2-838C-43B8-B411-4F4F2791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9AF-CC1E-442D-95BC-1C89875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8B3-A664-4BD2-9A72-37CCE3C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20D-0967-4448-B47E-B67E7C1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250-8207-47F7-B374-617A42075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0/MacedonEmpire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Alexander_and_Aristotl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3/Map_Macedonia_336_BC-en.sv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"/>
              </a:rPr>
              <a:t>Alexander the Great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έγας Ἀλέξανδρος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“Conquerer of the world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2990880" cy="373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5320" y="2743200"/>
            <a:ext cx="2381040" cy="300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51600" y="2057400"/>
            <a:ext cx="3092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Persians roun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ing Egypt in 331 BC, Alexander marched eastward into Mesopotamia ( N. Ir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ed Darius once more at 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Gaugamel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people today still study this battle of Alexander'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attle between Alexander and Darius th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lowed Alexander to enter the Persian empire and start hi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on their 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95680" y="3605040"/>
            <a:ext cx="4648320" cy="325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751800" y="0"/>
            <a:ext cx="2392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le:Battle of Gaugamela, 331 BC - Opening movements.gif"/>
          <p:cNvPicPr/>
          <p:nvPr/>
        </p:nvPicPr>
        <p:blipFill>
          <a:blip r:embed="rId2"/>
          <a:stretch/>
        </p:blipFill>
        <p:spPr>
          <a:xfrm>
            <a:off x="0" y="0"/>
            <a:ext cx="5867280" cy="445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Battle gaugamela decisive.gif"/>
          <p:cNvPicPr/>
          <p:nvPr/>
        </p:nvPicPr>
        <p:blipFill>
          <a:blip r:embed="rId3"/>
          <a:stretch/>
        </p:blipFill>
        <p:spPr>
          <a:xfrm>
            <a:off x="4419720" y="3048120"/>
            <a:ext cx="4724280" cy="358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Indian Con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nter of 327/326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attle of fort of Massaga Alexander was seriously wounded in the leg/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the Hydas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326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wanted to go further into India but the army was starting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back to Babylon, started planning assault on Ara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ets planned, Dies on june 10/11 323 BCE from malaria or typhoid f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File:MacedonEmpir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Who was this guy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cedon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urth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Greek city state. Born a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6 BCE in P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’s teacher was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risto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hillip th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d united the mainland Greece with diplomatic and military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took control when father was assassinated in 336. How old wa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ecuted all potential heirs to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 had Cleopatra Eurydice and her daughter by Philip, Europa, burned alive. Alexander had to kill Attalus (her fa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609480"/>
            <a:ext cx="3124080" cy="1981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1447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79096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Map Macedonia 336 BC-en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Con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athers death city-states rebelled/revo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bes, Athens, Thessaly, and the Thra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bes to the north of Macedon first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bes revolted twice (beginning &amp; northern campaign) after second time people really fear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nquering Greece he moved on to battle Persia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ing Darius th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onquest of Pers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fighting in 334 BCE, 2 years after papa’s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,100 soldiers, 6100 cavalry and a fleet of 120 ships with crews numbering 38,000,drawn from Macedon and various Greek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enied Pers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val bases, why would Alexander want to do th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Is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exander took on Darius the III (Darius wimped out and ra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destroyed the main Persian ar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I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6248520"/>
            <a:ext cx="46479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faun in Pompe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File:Battle of Issus.jpg"/>
          <p:cNvPicPr/>
          <p:nvPr/>
        </p:nvPicPr>
        <p:blipFill>
          <a:blip r:embed="rId2"/>
          <a:stretch/>
        </p:blipFill>
        <p:spPr>
          <a:xfrm>
            <a:off x="152280" y="1066680"/>
            <a:ext cx="8686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onquest of Egy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advanced on Egypt in later 332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garded a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ibe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at Gaza took a siege to defeat. Because they resisted, they got the same treatment as Tr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usalem opened it’s doors, because of book of Dani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often referred to Zeus-Ammon as his true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the city of Alexa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ile:Name of Alexander the Great in Hieroglyphs circa 330 BCE.jpg"/>
          <p:cNvPicPr/>
          <p:nvPr/>
        </p:nvPicPr>
        <p:blipFill>
          <a:blip r:embed="rId2"/>
          <a:stretch/>
        </p:blipFill>
        <p:spPr>
          <a:xfrm>
            <a:off x="0" y="0"/>
            <a:ext cx="5867280" cy="4091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832360" y="2590920"/>
            <a:ext cx="3311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6201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51:08Z</dcterms:created>
  <dc:creator>jobert</dc:creator>
  <dc:description/>
  <dc:language>en-US</dc:language>
  <cp:lastModifiedBy>jobert</cp:lastModifiedBy>
  <dcterms:modified xsi:type="dcterms:W3CDTF">2014-03-31T15:55:29Z</dcterms:modified>
  <cp:revision>4</cp:revision>
  <dc:subject/>
  <dc:title>Alexander the Great “Conquer of the world”</dc:title>
</cp:coreProperties>
</file>